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531-E01C-40F8-8050-D14D3530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6D8-7339-425D-B319-037244E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58D-1B62-4CBC-816E-77D2D3C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3EF-8006-4773-ABB2-E557996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FB1-6A9E-4712-8A96-50846AFB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B35B-2728-4773-A567-06B49D4A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88EA-C3A7-4C84-BE30-E94E38C3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715-80B8-4678-A66B-51CD7ACE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6D2D-5944-477B-A34B-CFF78A2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D38-8E4F-455A-8627-99BCF0D3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780-4904-44D4-9D95-57E0D3B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1C4-1C78-478E-B240-9431AAF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0EA9-8292-4862-9B3D-D6C1B0E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06AE-7438-45D2-919D-FAA9074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D53-46E2-46D0-B8E4-A5B42A3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8FC4-C0E7-4710-AB34-2145EE3F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05E9-8070-4E9F-B3C4-27EA9A4C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AFC05-EB3A-4DC1-8F88-69173A2D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5FD4D-89BF-4A37-9F58-A872645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C131D-0E2D-4F6F-A908-F37BC85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268A6-8A9F-46A6-8B35-AF59C35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0A5BC-C18D-4EBE-9053-EDE67EC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00C-C2A4-44FF-8BD2-68182058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9B8A4-C1E0-4433-9E29-CD694B4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EF9E4-0738-400F-B8BE-A1A190A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3B664-396C-4B43-A1F3-C76F1083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8A843-87E6-40D6-9275-F2DE385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43BB4-D52A-45EA-B746-EE020EB8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BCB22-647A-46ED-8FDE-C887F4D1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F2F3C-9491-4C59-A017-D38166F3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1951-FB54-44BB-ADAC-FB5A15DC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54DF-0323-44D8-9085-FACA1F9C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C4C3-17D6-4CCD-9E0E-362919B4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93C-89DC-4DE3-99AB-4111794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FE65-E203-4DFB-8266-C4EF8D0F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7218-1A6C-4B95-BD09-FA688042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9E98-420B-46AC-9C4E-B837638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4A8B-EA26-4994-844B-E2A5165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C1A0-625F-498B-831F-A726594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9CC1-44C4-4DB0-8EC3-5B2EAB70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5F81-55BD-426A-AAB6-ABC0791A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38E8-B07B-4C10-A60A-935C9A95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D4DA-D6DC-4190-B16B-7890CF22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FF3-8EE0-4C61-981C-04516EE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D8F-C616-4FFC-ACBC-7EA178D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2AE-22BA-468A-B60E-4BB9F6BE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0FD-2566-44AE-A52F-BA2AC45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DA7-352D-42C9-AF8A-FE96974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087-4021-4E4A-94D6-8BF4D364A2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2C19-B80B-4F5E-9375-612C76DCE3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322-7DBE-452D-888E-975237F116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FE1-6C19-4B48-9BD5-BDBA73B751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h. 55 Warm-U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12193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n energy pyramid and label the following trophic level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imary produc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Prim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Second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ertiary consum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n example of an organism at each level of the pyramid in #1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5000 J of energy is available in producers, how much of that energy would be available to tertiary consumer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4120" y="1125360"/>
            <a:ext cx="3657600" cy="375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23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Define Ch. 55 Terms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Autotr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Heterotro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Detriti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Gross primary production (G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Net primary production (N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Biogeochemica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5960" indent="-234720">
              <a:lnSpc>
                <a:spcPct val="100000"/>
              </a:lnSpc>
              <a:buClr>
                <a:srgbClr val="0080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Primary P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Primary produ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amt.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ght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emical ener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Gross primary production (GP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total primary production in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316"/>
                </a:solidFill>
                <a:latin typeface="Arial"/>
                <a:ea typeface="Arial"/>
              </a:rPr>
              <a:t>Net primary production (NPP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gross primary production minus the energy used by the primary producers fo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respiration (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4588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PP = GPP – 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PP = storage of chemical energy available to consumers in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8" descr="_x001f_54_04NetPrimaryProduction_U.jpg                                0002A28E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1816200"/>
            <a:ext cx="8535960" cy="4749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257480" y="1871640"/>
            <a:ext cx="1164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oce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inental shel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87360" y="2587680"/>
            <a:ext cx="203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welling zo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reme desert, rock, sand, 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1144440" y="4894200"/>
            <a:ext cx="12747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amp and mar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ke and str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98600" y="2941560"/>
            <a:ext cx="1919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ert and semidesert scr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pical rain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519120" y="4538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deciduous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evergreen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97040" y="4351320"/>
            <a:ext cx="1609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pical seasonal for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403280" y="3300480"/>
            <a:ext cx="1019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ltivated 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1028880" y="2232000"/>
            <a:ext cx="1395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u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gal beds and reef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955800" y="3652920"/>
            <a:ext cx="1457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eal forest (taig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781200" y="4005360"/>
            <a:ext cx="1635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odland and shrub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2598840" y="4910040"/>
            <a:ext cx="24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620800" y="47293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614680" y="4551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2620800" y="436716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2627280" y="41893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2630520" y="4011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637000" y="3833640"/>
            <a:ext cx="24264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2649600" y="36529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2658960" y="348444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2671920" y="330048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2681280" y="31291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2687760" y="295128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2725560" y="277020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2589120" y="2243160"/>
            <a:ext cx="233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2728800" y="205884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4106880" y="1881360"/>
            <a:ext cx="29052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1076400" y="6200640"/>
            <a:ext cx="1814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water (on contine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1069920" y="5987880"/>
            <a:ext cx="712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est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5"/>
          <p:cNvSpPr/>
          <p:nvPr/>
        </p:nvSpPr>
        <p:spPr>
          <a:xfrm>
            <a:off x="1073160" y="5791320"/>
            <a:ext cx="712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6"/>
          <p:cNvSpPr/>
          <p:nvPr/>
        </p:nvSpPr>
        <p:spPr>
          <a:xfrm>
            <a:off x="1244520" y="5479920"/>
            <a:ext cx="2811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7"/>
          <p:cNvSpPr/>
          <p:nvPr/>
        </p:nvSpPr>
        <p:spPr>
          <a:xfrm>
            <a:off x="2708280" y="5508720"/>
            <a:ext cx="147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Earth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4896000" y="5508720"/>
            <a:ext cx="147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erage net 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ion (g/m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y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9"/>
          <p:cNvSpPr/>
          <p:nvPr/>
        </p:nvSpPr>
        <p:spPr>
          <a:xfrm>
            <a:off x="4246560" y="531972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95136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652920" y="531972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341520" y="532296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3"/>
          <p:cNvSpPr/>
          <p:nvPr/>
        </p:nvSpPr>
        <p:spPr>
          <a:xfrm>
            <a:off x="304632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2744640" y="532296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2484360" y="531648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6246720" y="5326200"/>
            <a:ext cx="392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7"/>
          <p:cNvSpPr/>
          <p:nvPr/>
        </p:nvSpPr>
        <p:spPr>
          <a:xfrm>
            <a:off x="5891040" y="5329080"/>
            <a:ext cx="3924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8"/>
          <p:cNvSpPr/>
          <p:nvPr/>
        </p:nvSpPr>
        <p:spPr>
          <a:xfrm>
            <a:off x="5535720" y="5329080"/>
            <a:ext cx="392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9"/>
          <p:cNvSpPr/>
          <p:nvPr/>
        </p:nvSpPr>
        <p:spPr>
          <a:xfrm>
            <a:off x="5205240" y="5326200"/>
            <a:ext cx="392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0"/>
          <p:cNvSpPr/>
          <p:nvPr/>
        </p:nvSpPr>
        <p:spPr>
          <a:xfrm>
            <a:off x="4932360" y="5329080"/>
            <a:ext cx="271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4653000" y="532620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2"/>
          <p:cNvSpPr/>
          <p:nvPr/>
        </p:nvSpPr>
        <p:spPr>
          <a:xfrm>
            <a:off x="7048440" y="5511960"/>
            <a:ext cx="176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Earth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3"/>
          <p:cNvSpPr/>
          <p:nvPr/>
        </p:nvSpPr>
        <p:spPr>
          <a:xfrm>
            <a:off x="8491680" y="532440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4"/>
          <p:cNvSpPr/>
          <p:nvPr/>
        </p:nvSpPr>
        <p:spPr>
          <a:xfrm>
            <a:off x="8142120" y="531504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5"/>
          <p:cNvSpPr/>
          <p:nvPr/>
        </p:nvSpPr>
        <p:spPr>
          <a:xfrm>
            <a:off x="7808760" y="5318280"/>
            <a:ext cx="163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6"/>
          <p:cNvSpPr/>
          <p:nvPr/>
        </p:nvSpPr>
        <p:spPr>
          <a:xfrm>
            <a:off x="7453440" y="532116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7"/>
          <p:cNvSpPr/>
          <p:nvPr/>
        </p:nvSpPr>
        <p:spPr>
          <a:xfrm>
            <a:off x="7113600" y="5324400"/>
            <a:ext cx="16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8"/>
          <p:cNvSpPr/>
          <p:nvPr/>
        </p:nvSpPr>
        <p:spPr>
          <a:xfrm>
            <a:off x="6815160" y="5318280"/>
            <a:ext cx="1634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9"/>
          <p:cNvSpPr/>
          <p:nvPr/>
        </p:nvSpPr>
        <p:spPr>
          <a:xfrm>
            <a:off x="4829040" y="18730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0"/>
          <p:cNvSpPr/>
          <p:nvPr/>
        </p:nvSpPr>
        <p:spPr>
          <a:xfrm>
            <a:off x="6029280" y="2422440"/>
            <a:ext cx="3636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,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1"/>
          <p:cNvSpPr/>
          <p:nvPr/>
        </p:nvSpPr>
        <p:spPr>
          <a:xfrm>
            <a:off x="4971960" y="20509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2"/>
          <p:cNvSpPr/>
          <p:nvPr/>
        </p:nvSpPr>
        <p:spPr>
          <a:xfrm>
            <a:off x="5749920" y="2225520"/>
            <a:ext cx="376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3"/>
          <p:cNvSpPr/>
          <p:nvPr/>
        </p:nvSpPr>
        <p:spPr>
          <a:xfrm>
            <a:off x="5067360" y="26035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4"/>
          <p:cNvSpPr/>
          <p:nvPr/>
        </p:nvSpPr>
        <p:spPr>
          <a:xfrm>
            <a:off x="4727520" y="277812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5"/>
          <p:cNvSpPr/>
          <p:nvPr/>
        </p:nvSpPr>
        <p:spPr>
          <a:xfrm>
            <a:off x="4791240" y="2952720"/>
            <a:ext cx="242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6"/>
          <p:cNvSpPr/>
          <p:nvPr/>
        </p:nvSpPr>
        <p:spPr>
          <a:xfrm>
            <a:off x="5337000" y="33148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5133960" y="348948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8"/>
          <p:cNvSpPr/>
          <p:nvPr/>
        </p:nvSpPr>
        <p:spPr>
          <a:xfrm>
            <a:off x="5273640" y="3666960"/>
            <a:ext cx="243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9"/>
          <p:cNvSpPr/>
          <p:nvPr/>
        </p:nvSpPr>
        <p:spPr>
          <a:xfrm>
            <a:off x="6229440" y="313380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,2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0"/>
          <p:cNvSpPr/>
          <p:nvPr/>
        </p:nvSpPr>
        <p:spPr>
          <a:xfrm>
            <a:off x="5133960" y="38448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1"/>
          <p:cNvSpPr/>
          <p:nvPr/>
        </p:nvSpPr>
        <p:spPr>
          <a:xfrm>
            <a:off x="4886280" y="508968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2"/>
          <p:cNvSpPr/>
          <p:nvPr/>
        </p:nvSpPr>
        <p:spPr>
          <a:xfrm>
            <a:off x="5816520" y="437832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3"/>
          <p:cNvSpPr/>
          <p:nvPr/>
        </p:nvSpPr>
        <p:spPr>
          <a:xfrm>
            <a:off x="5543640" y="454968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84"/>
          <p:cNvSpPr/>
          <p:nvPr/>
        </p:nvSpPr>
        <p:spPr>
          <a:xfrm>
            <a:off x="5610240" y="4727520"/>
            <a:ext cx="388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5"/>
          <p:cNvSpPr/>
          <p:nvPr/>
        </p:nvSpPr>
        <p:spPr>
          <a:xfrm>
            <a:off x="6095880" y="4908600"/>
            <a:ext cx="389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6"/>
          <p:cNvSpPr/>
          <p:nvPr/>
        </p:nvSpPr>
        <p:spPr>
          <a:xfrm>
            <a:off x="5200560" y="402264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7"/>
          <p:cNvSpPr/>
          <p:nvPr/>
        </p:nvSpPr>
        <p:spPr>
          <a:xfrm>
            <a:off x="4800600" y="4194000"/>
            <a:ext cx="249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8"/>
          <p:cNvSpPr/>
          <p:nvPr/>
        </p:nvSpPr>
        <p:spPr>
          <a:xfrm>
            <a:off x="6915240" y="5083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9"/>
          <p:cNvSpPr/>
          <p:nvPr/>
        </p:nvSpPr>
        <p:spPr>
          <a:xfrm>
            <a:off x="7451640" y="330516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0"/>
          <p:cNvSpPr/>
          <p:nvPr/>
        </p:nvSpPr>
        <p:spPr>
          <a:xfrm>
            <a:off x="7543800" y="34862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1"/>
          <p:cNvSpPr/>
          <p:nvPr/>
        </p:nvSpPr>
        <p:spPr>
          <a:xfrm>
            <a:off x="7559640" y="36608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2"/>
          <p:cNvSpPr/>
          <p:nvPr/>
        </p:nvSpPr>
        <p:spPr>
          <a:xfrm>
            <a:off x="7273800" y="383868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3"/>
          <p:cNvSpPr/>
          <p:nvPr/>
        </p:nvSpPr>
        <p:spPr>
          <a:xfrm>
            <a:off x="7147080" y="40165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4"/>
          <p:cNvSpPr/>
          <p:nvPr/>
        </p:nvSpPr>
        <p:spPr>
          <a:xfrm>
            <a:off x="6943680" y="4194000"/>
            <a:ext cx="249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5"/>
          <p:cNvSpPr/>
          <p:nvPr/>
        </p:nvSpPr>
        <p:spPr>
          <a:xfrm>
            <a:off x="7385040" y="43718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6"/>
          <p:cNvSpPr/>
          <p:nvPr/>
        </p:nvSpPr>
        <p:spPr>
          <a:xfrm>
            <a:off x="7242120" y="454968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7"/>
          <p:cNvSpPr/>
          <p:nvPr/>
        </p:nvSpPr>
        <p:spPr>
          <a:xfrm>
            <a:off x="7169040" y="472752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8"/>
          <p:cNvSpPr/>
          <p:nvPr/>
        </p:nvSpPr>
        <p:spPr>
          <a:xfrm>
            <a:off x="7058160" y="49021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9"/>
          <p:cNvSpPr/>
          <p:nvPr/>
        </p:nvSpPr>
        <p:spPr>
          <a:xfrm>
            <a:off x="8204040" y="1882800"/>
            <a:ext cx="287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4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0"/>
          <p:cNvSpPr/>
          <p:nvPr/>
        </p:nvSpPr>
        <p:spPr>
          <a:xfrm>
            <a:off x="7270920" y="206064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1"/>
          <p:cNvSpPr/>
          <p:nvPr/>
        </p:nvSpPr>
        <p:spPr>
          <a:xfrm>
            <a:off x="6972480" y="22417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2"/>
          <p:cNvSpPr/>
          <p:nvPr/>
        </p:nvSpPr>
        <p:spPr>
          <a:xfrm>
            <a:off x="6962760" y="2419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3"/>
          <p:cNvSpPr/>
          <p:nvPr/>
        </p:nvSpPr>
        <p:spPr>
          <a:xfrm>
            <a:off x="6902280" y="2590920"/>
            <a:ext cx="249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4"/>
          <p:cNvSpPr/>
          <p:nvPr/>
        </p:nvSpPr>
        <p:spPr>
          <a:xfrm>
            <a:off x="6902280" y="2771640"/>
            <a:ext cx="29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5"/>
          <p:cNvSpPr/>
          <p:nvPr/>
        </p:nvSpPr>
        <p:spPr>
          <a:xfrm>
            <a:off x="6962760" y="295272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6"/>
          <p:cNvSpPr/>
          <p:nvPr/>
        </p:nvSpPr>
        <p:spPr>
          <a:xfrm>
            <a:off x="8420040" y="3121200"/>
            <a:ext cx="249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606600"/>
            <a:ext cx="8915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rebuchet MS"/>
              </a:rPr>
              <a:t>Net primary production of different ecosyste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560" y="664920"/>
            <a:ext cx="838188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ary production affected b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Light availability (</a:t>
            </a:r>
            <a:r>
              <a:rPr b="0" lang="en-US" sz="2800" spc="-1" strike="noStrike">
                <a:solidFill>
                  <a:srgbClr val="438086"/>
                </a:solidFill>
                <a:latin typeface="Garamond"/>
                <a:ea typeface="ＭＳ Ｐゴシック"/>
              </a:rPr>
              <a:t>↑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depth, ↓ photosynthesis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utrient availability (N, P in marine env.)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factors controlling primary produc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emperature &amp; moistur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nutrient-rich lake that supports algae growth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utro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8" name="Picture 2" descr="54_07Eutrophication_UP"/>
          <p:cNvPicPr/>
          <p:nvPr/>
        </p:nvPicPr>
        <p:blipFill>
          <a:blip r:embed="rId1"/>
          <a:stretch/>
        </p:blipFill>
        <p:spPr>
          <a:xfrm>
            <a:off x="3048120" y="4038480"/>
            <a:ext cx="32814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55_10_EnergyPartitioning-L.jpg"/>
          <p:cNvPicPr/>
          <p:nvPr/>
        </p:nvPicPr>
        <p:blipFill>
          <a:blip r:embed="rId1"/>
          <a:stretch/>
        </p:blipFill>
        <p:spPr>
          <a:xfrm>
            <a:off x="4191120" y="3048120"/>
            <a:ext cx="4779720" cy="3636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674640"/>
            <a:ext cx="8763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  <a:ea typeface="Arial"/>
              </a:rPr>
              <a:t>Energy transfer between trophic levels is typically only 10% efficient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152280" y="1905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600" y="2057400"/>
            <a:ext cx="464832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on efficiency: only fraction of E stored in f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ergy used in respiration is lost as </a:t>
            </a:r>
            <a:r>
              <a:rPr b="1" lang="en-US" sz="2800" spc="-1" strike="noStrike" u="sng">
                <a:solidFill>
                  <a:srgbClr val="b50316"/>
                </a:solidFill>
                <a:uFillTx/>
                <a:latin typeface="Arial"/>
                <a:ea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ergy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not cycle!) within ecosys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55_11NetProductPyramid-L.jpg"/>
          <p:cNvPicPr/>
          <p:nvPr/>
        </p:nvPicPr>
        <p:blipFill>
          <a:blip r:embed="rId1"/>
          <a:stretch/>
        </p:blipFill>
        <p:spPr>
          <a:xfrm>
            <a:off x="304920" y="1066680"/>
            <a:ext cx="8397720" cy="5337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5638680" y="8380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0% transfer of energy from one level to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0316"/>
                </a:solidFill>
                <a:latin typeface="Arial"/>
                <a:ea typeface="Arial"/>
              </a:rPr>
              <a:t>Ecological pyramids </a:t>
            </a:r>
            <a:r>
              <a:rPr b="0" lang="en-US" sz="3200" spc="-1" strike="noStrike">
                <a:solidFill>
                  <a:srgbClr val="424456"/>
                </a:solidFill>
                <a:latin typeface="Arial"/>
                <a:ea typeface="Arial"/>
              </a:rPr>
              <a:t>give insight to food chains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rcRect l="0" t="0" r="0" b="39376"/>
          <a:stretch/>
        </p:blipFill>
        <p:spPr>
          <a:xfrm>
            <a:off x="3581280" y="4191120"/>
            <a:ext cx="5257800" cy="2287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2"/>
          <a:srcRect l="0" t="0" r="0" b="5625"/>
          <a:stretch/>
        </p:blipFill>
        <p:spPr>
          <a:xfrm>
            <a:off x="3505320" y="1752480"/>
            <a:ext cx="5333760" cy="21272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4398840" y="38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yramid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4648320" y="6319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yramid of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6320" y="23623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s of energy limits # of top-level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ood webs only have 4 or 5 trophic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9" descr="_x001d_54_14TrophicLevelEnergy_U.jpg                                  0002A28E&#10;CS1-Vol.07                     BD7D9C21:"/>
          <p:cNvPicPr/>
          <p:nvPr/>
        </p:nvPicPr>
        <p:blipFill>
          <a:blip r:embed="rId1"/>
          <a:stretch/>
        </p:blipFill>
        <p:spPr>
          <a:xfrm>
            <a:off x="303120" y="2641680"/>
            <a:ext cx="8535960" cy="3706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420840" y="2668680"/>
            <a:ext cx="14983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69800" y="3201840"/>
            <a:ext cx="1443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471600" y="4187880"/>
            <a:ext cx="1442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465120" y="5300640"/>
            <a:ext cx="1442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28600" y="9144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Arial"/>
              </a:rPr>
              <a:t>The dynamics of energy through ecosystems have important implications for the human pop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Matter Cycles in Eco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Biogeochemical cy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nutrient cycles that contain both biotic and abiotic compon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organic parts of an eco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trient Cycles: water, carbon, nitrogen, phosphor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55_13NutrientCycling-L.jpg"/>
          <p:cNvPicPr/>
          <p:nvPr/>
        </p:nvPicPr>
        <p:blipFill>
          <a:blip r:embed="rId1"/>
          <a:stretch/>
        </p:blipFill>
        <p:spPr>
          <a:xfrm>
            <a:off x="1630440" y="0"/>
            <a:ext cx="58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ater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1" name="Picture 13" descr="55_14aWaterCycle-L.jpg"/>
          <p:cNvPicPr/>
          <p:nvPr/>
        </p:nvPicPr>
        <p:blipFill>
          <a:blip r:embed="rId1"/>
          <a:stretch/>
        </p:blipFill>
        <p:spPr>
          <a:xfrm>
            <a:off x="1752480" y="1071720"/>
            <a:ext cx="5658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pter 55: Ecosyste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8" name="Picture 3" descr="55_02DesertSpring-L.jpg"/>
          <p:cNvPicPr/>
          <p:nvPr/>
        </p:nvPicPr>
        <p:blipFill>
          <a:blip r:embed="rId1"/>
          <a:stretch/>
        </p:blipFill>
        <p:spPr>
          <a:xfrm>
            <a:off x="1143000" y="1981080"/>
            <a:ext cx="6980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Carbon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43240" y="159984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removed by photosynthesis, added by burning fossil fue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14" descr="55_14bCarbonCycle-L.jpg"/>
          <p:cNvPicPr/>
          <p:nvPr/>
        </p:nvPicPr>
        <p:blipFill>
          <a:blip r:embed="rId1"/>
          <a:stretch/>
        </p:blipFill>
        <p:spPr>
          <a:xfrm>
            <a:off x="243000" y="888840"/>
            <a:ext cx="58528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Nitrogen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29200" y="15235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itrogen fix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N</a:t>
            </a:r>
            <a:r>
              <a:rPr b="0" lang="en-US" sz="2200" spc="-1" strike="noStrike" baseline="-25000">
                <a:solidFill>
                  <a:srgbClr val="438086"/>
                </a:solidFill>
                <a:latin typeface="Arial"/>
                <a:ea typeface="ＭＳ Ｐゴシック"/>
              </a:rPr>
              <a:t>2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plants by bacteri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itrific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mmonium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nitrite </a:t>
            </a:r>
            <a:r>
              <a:rPr b="0" lang="en-US" sz="22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 nit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Absorbed by pla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Denit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Release N to atmospher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19" descr="55_14caNitrogenCycle-L.jpg"/>
          <p:cNvPicPr/>
          <p:nvPr/>
        </p:nvPicPr>
        <p:blipFill>
          <a:blip r:embed="rId1"/>
          <a:stretch/>
        </p:blipFill>
        <p:spPr>
          <a:xfrm>
            <a:off x="115920" y="1432080"/>
            <a:ext cx="52941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hosphorus Cyc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9" name="Picture 15" descr="55_14dPhosphorusCycle-L.jpg"/>
          <p:cNvPicPr/>
          <p:nvPr/>
        </p:nvPicPr>
        <p:blipFill>
          <a:blip r:embed="rId1"/>
          <a:stretch/>
        </p:blipFill>
        <p:spPr>
          <a:xfrm>
            <a:off x="1676520" y="914400"/>
            <a:ext cx="5811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Restoration Ecolo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447560"/>
            <a:ext cx="822960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reme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use of organisms (prokaryotes, fungi, plants) to detoxify polluted ecosys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aug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introduce desirable species (eg. nitrogen-fixers) to add essential nutri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2" name="Picture 4" descr="55_17_MineRestoration-L.jpg"/>
          <p:cNvPicPr/>
          <p:nvPr/>
        </p:nvPicPr>
        <p:blipFill>
          <a:blip r:embed="rId1"/>
          <a:stretch/>
        </p:blipFill>
        <p:spPr>
          <a:xfrm>
            <a:off x="304920" y="3657600"/>
            <a:ext cx="854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55_19bRestorationEcology-L.jpg"/>
          <p:cNvPicPr/>
          <p:nvPr/>
        </p:nvPicPr>
        <p:blipFill>
          <a:blip r:embed="rId1"/>
          <a:stretch/>
        </p:blipFill>
        <p:spPr>
          <a:xfrm>
            <a:off x="380880" y="3363840"/>
            <a:ext cx="3886200" cy="349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55_19eRestorationEcology-L.jpg"/>
          <p:cNvPicPr/>
          <p:nvPr/>
        </p:nvPicPr>
        <p:blipFill>
          <a:blip r:embed="rId2"/>
          <a:stretch/>
        </p:blipFill>
        <p:spPr>
          <a:xfrm>
            <a:off x="4572000" y="3394080"/>
            <a:ext cx="4191120" cy="3463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55_18aBioremediation-L.jpg"/>
          <p:cNvPicPr/>
          <p:nvPr/>
        </p:nvPicPr>
        <p:blipFill>
          <a:blip r:embed="rId3"/>
          <a:stretch/>
        </p:blipFill>
        <p:spPr>
          <a:xfrm>
            <a:off x="4267080" y="0"/>
            <a:ext cx="4191120" cy="31719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304920" y="9144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remediation of groundwater contaminated with ura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2057400" y="3581280"/>
            <a:ext cx="51814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oration ecolog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You Must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nergy flows through the ecosystem (food chains and food we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gross primary productivity and net primary productivit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arbon and nitrogen biogeochemical cyc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  <a:ea typeface="Arial"/>
              </a:rPr>
              <a:t>Ecosyste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co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um of all the organisms living within its boundaries (biotic community) + abiotic factors with which they intera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s two unique proces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Energy flow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Chemical cyclin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Overview of energy &amp; nutrient dynamic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Picture 6" descr="55_04EnergyNutrientFlow-L.jpg"/>
          <p:cNvPicPr/>
          <p:nvPr/>
        </p:nvPicPr>
        <p:blipFill>
          <a:blip r:embed="rId1"/>
          <a:stretch/>
        </p:blipFill>
        <p:spPr>
          <a:xfrm>
            <a:off x="709560" y="1468440"/>
            <a:ext cx="77486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  <a:ea typeface="Arial"/>
              </a:rPr>
              <a:t>Energy Flow in an Ecosyst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1676520"/>
            <a:ext cx="86868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ergy cannot be recycl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ust be constantly supplied to an ecosystem (mostly b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“self feeders”) are the 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  <a:ea typeface="Arial"/>
              </a:rPr>
              <a:t>primary 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are usually photosynthetic (plants or algae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Arial"/>
                <a:ea typeface="ＭＳ Ｐゴシック"/>
              </a:rPr>
              <a:t>They use light energy to synthesize sugars and other organic compound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“other feeders”) – can’t make own f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240" y="685800"/>
            <a:ext cx="342900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trophic lev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ve the pri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ers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 on thei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tosynthet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pu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191120" y="304920"/>
            <a:ext cx="4618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914040"/>
            <a:ext cx="86868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bivores that eat primary producer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prim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nivores that eat herbivore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second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nivores that eat secondary consumers are called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tertiary consum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other important group of heterotrophs is the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etritivo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or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ecompos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000" spc="-1" strike="noStrike">
              <a:solidFill>
                <a:srgbClr val="438086"/>
              </a:solidFill>
              <a:latin typeface="Georgia"/>
            </a:endParaRPr>
          </a:p>
          <a:p>
            <a:pPr lvl="2" marL="1085760" indent="-218880">
              <a:lnSpc>
                <a:spcPct val="100000"/>
              </a:lnSpc>
              <a:spcBef>
                <a:spcPts val="300"/>
              </a:spcBef>
              <a:buClr>
                <a:srgbClr val="3399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get energy from detritus, nonliving organic material, and play an important role in material cycling.</a:t>
            </a:r>
            <a:endParaRPr b="0" lang="en-US" sz="30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680" y="1752480"/>
            <a:ext cx="46166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</a:rPr>
              <a:t>Main decomposer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438086"/>
              </a:solidFill>
              <a:latin typeface="Georgia"/>
            </a:endParaRPr>
          </a:p>
          <a:p>
            <a:pPr lvl="2" marL="67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ungi &amp; prokaryotes</a:t>
            </a:r>
            <a:endParaRPr b="0" lang="en-US" sz="32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32" name="Picture 1" descr="55_03DecomposingTree-L.jpg"/>
          <p:cNvPicPr/>
          <p:nvPr/>
        </p:nvPicPr>
        <p:blipFill>
          <a:blip r:embed="rId1"/>
          <a:stretch/>
        </p:blipFill>
        <p:spPr>
          <a:xfrm>
            <a:off x="4648320" y="482760"/>
            <a:ext cx="42908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local</cp:lastModifiedBy>
  <cp:lastPrinted>2001-01-06T03:20:03Z</cp:lastPrinted>
  <dcterms:modified xsi:type="dcterms:W3CDTF">2012-08-31T16:54:49Z</dcterms:modified>
  <cp:revision>319</cp:revision>
  <dc:subject/>
  <dc:title>Nerve activates contraction</dc:title>
</cp:coreProperties>
</file>